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n illustration of type-I and type-II T-cell responses arising from alveolar injury. IL: Interleukin; TNF: tumour necrosis factor; TLR: Toll-like receptor; IFN: interferon; TGF: transforming growth facto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hotomicrograph showing immunolocalisation of CC chemokine ligand (CCL)17 from idiopathic pulmonary fibrosis (IPF) lung tissue specimens. a) IPF lung section stained with anti-CCL17 antibodies, demonstrating immunolocalisation to epithelial cells. b) IPF lung section stained with control antibodies, demonstrating the lack of nonspecific staining. Reproduced with from [1] with permission from the publish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mmunohistochemistry for CD31 counterstained with haematoxylin, demonstrating positive staining in a) organising pneumonia and b) usual interstitial pneumonia (UIP). c) Within structurally distorted areas in UIP, termed honeycomb lung, abnormal, large-diameter vessels were apparent (arrows). FF: fibroblastic foci; MB: Masson bodies. Reproduced from [20] with permission from the publish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emiquantitative immunohistochemical analysis revealed a significant difference in CD31 positivity (mean±sem vascular density in organising pneumonia (OP) Masson bodies (n = 25) 0.163±0.022; in usual interstitial pneumonia (UIP) fibroblastic foci (n = 30) 0.032±0.007; p = 0.015), suggesting a difference in vascularisation between the Masson bodies of cryptogenic organising pneumonia and the fibroblastic foci of UIP. #: p = 0.015 by unpaired t-test. The mean vessel density is the amount of CD31 positivity normalised with respect to area. Reproduced from [20] with permission from the publish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The role of chemokines and cytokines in lung fibrosi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M. P. Keane</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Eur Respir Rev</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7(109):151-156</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November 28, 2008</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8 by European Respiratory Society</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n illustration of type-I and type-II T-cell responses arising from alveolar injury. </a:t>
            </a:r>
            <a:endParaRPr b="0" lang="en-US" sz="1600" spc="-1" strike="noStrike">
              <a:solidFill>
                <a:srgbClr val="000000"/>
              </a:solidFill>
              <a:latin typeface="Times New Roman"/>
            </a:endParaRPr>
          </a:p>
        </p:txBody>
      </p:sp>
      <p:pic>
        <p:nvPicPr>
          <p:cNvPr id="46" name="" descr=""/>
          <p:cNvPicPr/>
          <p:nvPr/>
        </p:nvPicPr>
        <p:blipFill>
          <a:blip r:embed="rId1"/>
          <a:stretch/>
        </p:blipFill>
        <p:spPr>
          <a:xfrm>
            <a:off x="2211480" y="1079640"/>
            <a:ext cx="5662440" cy="5394240"/>
          </a:xfrm>
          <a:prstGeom prst="rect">
            <a:avLst/>
          </a:prstGeom>
          <a:ln w="0">
            <a:noFill/>
          </a:ln>
        </p:spPr>
      </p:pic>
      <p:sp>
        <p:nvSpPr>
          <p:cNvPr id="47" name=""/>
          <p:cNvSpPr/>
          <p:nvPr/>
        </p:nvSpPr>
        <p:spPr>
          <a:xfrm>
            <a:off x="22114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 P. Keane Eur Respir Rev 2008;17:151-156</a:t>
            </a:r>
            <a:endParaRPr b="0" lang="en-US" sz="1200" spc="-1" strike="noStrike">
              <a:solidFill>
                <a:srgbClr val="000000"/>
              </a:solidFill>
              <a:latin typeface="Times New Roman"/>
            </a:endParaRPr>
          </a:p>
        </p:txBody>
      </p:sp>
      <p:sp>
        <p:nvSpPr>
          <p:cNvPr id="48"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8 by European Respiratory Societ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hotomicrograph showing immunolocalisation of CC chemokine ligand (CCL)17 from idiopathic pulmonary fibrosis (IPF) lung tissue specimens. a) IPF lung section stained with anti-CCL17 antibodies, demonstrating immunolocalisation to epithelial cells. b) IPF lu...</a:t>
            </a:r>
            <a:endParaRPr b="0" lang="en-US" sz="1600" spc="-1" strike="noStrike">
              <a:solidFill>
                <a:srgbClr val="000000"/>
              </a:solidFill>
              <a:latin typeface="Times New Roman"/>
            </a:endParaRPr>
          </a:p>
        </p:txBody>
      </p:sp>
      <p:pic>
        <p:nvPicPr>
          <p:cNvPr id="50" name="" descr=""/>
          <p:cNvPicPr/>
          <p:nvPr/>
        </p:nvPicPr>
        <p:blipFill>
          <a:blip r:embed="rId1"/>
          <a:stretch/>
        </p:blipFill>
        <p:spPr>
          <a:xfrm>
            <a:off x="739800" y="2174760"/>
            <a:ext cx="8604360" cy="3202200"/>
          </a:xfrm>
          <a:prstGeom prst="rect">
            <a:avLst/>
          </a:prstGeom>
          <a:ln w="0">
            <a:noFill/>
          </a:ln>
        </p:spPr>
      </p:pic>
      <p:sp>
        <p:nvSpPr>
          <p:cNvPr id="51"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 P. Keane Eur Respir Rev 2008;17:151-156</a:t>
            </a:r>
            <a:endParaRPr b="0" lang="en-US" sz="1200" spc="-1" strike="noStrike">
              <a:solidFill>
                <a:srgbClr val="000000"/>
              </a:solidFill>
              <a:latin typeface="Times New Roman"/>
            </a:endParaRPr>
          </a:p>
        </p:txBody>
      </p:sp>
      <p:sp>
        <p:nvSpPr>
          <p:cNvPr id="52"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8 by European Respiratory Society</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mmunohistochemistry for CD31 counterstained with haematoxylin, demonstrating positive staining in a) organising pneumonia and b) usual interstitial pneumonia (UIP). c) Within structurally distorted areas in UIP, termed honeycomb lung, abnormal, large-diame...</a:t>
            </a:r>
            <a:endParaRPr b="0" lang="en-US" sz="1600" spc="-1" strike="noStrike">
              <a:solidFill>
                <a:srgbClr val="000000"/>
              </a:solidFill>
              <a:latin typeface="Times New Roman"/>
            </a:endParaRPr>
          </a:p>
        </p:txBody>
      </p:sp>
      <p:pic>
        <p:nvPicPr>
          <p:cNvPr id="54" name="" descr=""/>
          <p:cNvPicPr/>
          <p:nvPr/>
        </p:nvPicPr>
        <p:blipFill>
          <a:blip r:embed="rId1"/>
          <a:stretch/>
        </p:blipFill>
        <p:spPr>
          <a:xfrm>
            <a:off x="739800" y="2646360"/>
            <a:ext cx="8604360" cy="2260440"/>
          </a:xfrm>
          <a:prstGeom prst="rect">
            <a:avLst/>
          </a:prstGeom>
          <a:ln w="0">
            <a:noFill/>
          </a:ln>
        </p:spPr>
      </p:pic>
      <p:sp>
        <p:nvSpPr>
          <p:cNvPr id="55"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 P. Keane Eur Respir Rev 2008;17:151-156</a:t>
            </a:r>
            <a:endParaRPr b="0" lang="en-US" sz="1200" spc="-1" strike="noStrike">
              <a:solidFill>
                <a:srgbClr val="000000"/>
              </a:solidFill>
              <a:latin typeface="Times New Roman"/>
            </a:endParaRPr>
          </a:p>
        </p:txBody>
      </p:sp>
      <p:sp>
        <p:nvSpPr>
          <p:cNvPr id="56"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8 by European Respiratory Society</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emiquantitative immunohistochemical analysis revealed a significant difference in CD31 positivity (mean±sem vascular density in organising pneumonia (OP) Masson bodies (n = 25) 0.163±0.022; in usual interstitial pneumonia (UIP) fibroblastic foci (n = 30) 0...</a:t>
            </a:r>
            <a:endParaRPr b="0" lang="en-US" sz="1600" spc="-1" strike="noStrike">
              <a:solidFill>
                <a:srgbClr val="000000"/>
              </a:solidFill>
              <a:latin typeface="Times New Roman"/>
            </a:endParaRPr>
          </a:p>
        </p:txBody>
      </p:sp>
      <p:pic>
        <p:nvPicPr>
          <p:cNvPr id="58" name="" descr=""/>
          <p:cNvPicPr/>
          <p:nvPr/>
        </p:nvPicPr>
        <p:blipFill>
          <a:blip r:embed="rId1"/>
          <a:stretch/>
        </p:blipFill>
        <p:spPr>
          <a:xfrm>
            <a:off x="968400" y="1079640"/>
            <a:ext cx="8147160" cy="5394240"/>
          </a:xfrm>
          <a:prstGeom prst="rect">
            <a:avLst/>
          </a:prstGeom>
          <a:ln w="0">
            <a:noFill/>
          </a:ln>
        </p:spPr>
      </p:pic>
      <p:sp>
        <p:nvSpPr>
          <p:cNvPr id="59" name=""/>
          <p:cNvSpPr/>
          <p:nvPr/>
        </p:nvSpPr>
        <p:spPr>
          <a:xfrm>
            <a:off x="9684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 P. Keane Eur Respir Rev 2008;17:151-156</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8 by European Respiratory Societ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